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623-2CEA-44B4-A79F-36E3F074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3DB-6687-4F45-918C-FEE8025F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FCE-594F-4199-9D4C-FF375C54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A9C-E2C8-4964-A1D5-A80DD84D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2B90-6722-403B-939D-06AA434B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F29D-7EC3-4096-911D-3E5139F8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AC28-89F7-41C3-907A-D1F39324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C5B9-4491-413E-832D-148B4082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6BF3-68FB-403C-AEC3-45E2ACD5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5E7A-A366-4B2F-8497-4E4C5AA5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EE6A-5D6D-43E3-8AF1-FD91ED5B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654-D850-4133-BFD6-51557F49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8D79-B0A8-4FE9-AE57-E37018F4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897D-BD23-4FE4-B3DD-8EAEC389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24A1-61F6-4AD8-A74C-73F1AA10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896C-898A-4F51-93F8-70E31702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0E0C-08FF-4FF5-9B32-D7290D63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8FF36-8ADF-46AD-9EFF-0203E270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D39D9-E051-4261-A7D1-A98CFB23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C7BBB-8A87-4D3B-9693-84CDBC8D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1B80F-C555-4B55-AB38-B86F8303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6FBD2-0B2E-4709-BDAD-808966D5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016-65CA-4937-AFBF-97DFC185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11921-6E30-4A27-8FDA-1EAE0F9F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EE677-ED91-4AA0-9AC9-DF379287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59355-A8CA-4B7C-9452-8CEA7301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41527-6AF3-469C-A516-3F0DA689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A92DA-95B5-41EE-9BE1-0620055E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238A5-0C75-482C-9758-C1528B30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216E6-E272-4A3E-B545-2CA95DAA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AAF8B-8F2D-4BA1-9087-AB305C4D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434C8-17DF-4C43-BF58-EE50B205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0DF1B-385F-4EEE-BAF1-F3F74AAA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C12-B3E7-4797-A3E0-8C72B46D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94648-EAA5-472A-9FAE-A3F643AA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CFE07-FE2C-44B8-8660-68F8E473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5AF1C-80DF-405D-A1D7-6CB0C6E4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73728-A1A3-4284-981D-4410A753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28524-34FB-4721-9E29-2E92E998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45BA2-6BFE-4D9F-9A97-3F34EDFC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3D4AF-2109-4187-84E4-B4A4BD9C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00E5F-CCBA-48DD-BB6C-7DF0D4F2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23BBE-9F26-4196-BC59-07A11623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AC74C-9E88-4CB2-8F38-E26EFAF4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39D-E24F-455D-B9E0-5F237A3D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0A80C-91D4-46A2-8CFA-24EA50F0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A55E6-080C-49FA-B22C-31D61287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41A02-83F7-474A-8F1C-238556E6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3181B-2713-429D-AC56-18C36B4B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870F5-A84D-449A-BD73-9E7129D8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895FE-B565-4A27-B43E-B8E8D6AD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61FD88-A9A8-484D-8322-D59B640B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B6B15-08CD-4DC2-B480-40898FEB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6AC6A-4ED4-4072-A05E-82212B27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3CCDB5-88CD-4EB7-91A1-302E63BF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3AB-9349-46B9-9EC4-A955865F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A93913-AD52-46CF-99EF-7819DE00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50EBC-0B83-4DF0-B2D4-13FB3D02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DF1B0-0EA3-4556-99E3-567EA899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FAEB6-BCFA-4A6A-A0A0-8A66E8D8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CD03E7-D652-4FAC-A7E3-B4E07C29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E71803-6A8C-4FE1-A96C-E8E517FA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A75F5D-8E9B-41E2-9E7B-4D9CF2C1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BFB0DF-AD8A-43AA-9765-82B71C63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A472C9-3E84-4478-A474-E0A8BEDF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20735-05EA-44EE-B458-36126AFC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B52-361A-4FF8-9129-9BCA2B49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64FF3-CDE4-4822-AF15-407AB4F6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29908-1BA2-42F9-B3CD-E6875673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61B1A0-A07E-49E4-B715-B87AD00F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ED3B1-D321-45E6-9002-AF1D9237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623227-F686-44B7-BF7F-59E7C93B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B7B03-D9CA-4A54-8055-BEE9B7ED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4C605-81DF-4602-BEA2-21D2DE00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CA0A4A-7523-4971-9291-2AFF3D89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7577D-6A3B-437B-A734-FA477653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1F4F90-60F5-4164-B945-EF946DCF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B58-D843-4C14-BBCE-6BA1B9B6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B2088-2B61-47E3-86CE-6EAB05E3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B7D8F-F08C-484A-9C77-1C031822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AFA13F-1575-47B3-9A77-9F2FD3AD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038B59-505D-4EFD-B632-302757A5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981730-F3DB-43BF-93BD-DF2C5DD6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8C5-9575-4307-944A-73D27EFC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72BD-552D-413C-B56C-33131296E56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FA81-FE3B-4FE0-B7AF-185A7009719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B30E-7CB8-4844-9386-CE4A9CA1F89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B720-578B-43E3-97ED-8383A0787A5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ED76-7423-49ED-9360-685E4757075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004A-D4A8-4EB6-A962-634D23BE153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6DBC-291D-4671-9791-C993DC36D99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entury Schoolbook"/>
              </a:rPr>
              <a:t>INFORMATION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91440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anisha is going to sell popcorn at the school basketball game.  After filling 78 bags with popcorn, she still had 29 empty sacks left.  She started making a table to show how much money she will make selling popcorn at the basketball game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anisha told Jan and her family to come to the game and buy popcorn.  The number of people in Jan’s family, including Jan, is 7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990720" y="2209680"/>
          <a:ext cx="6095880" cy="2560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Number of Ba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 c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0 c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5 c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MONDAY</a:t>
            </a: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	</a:t>
            </a:r>
            <a:br>
              <a:rPr sz="27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1430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Tanisha sells 5 bags of popcorn, how much money will she mak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TUESDAY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430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she sold 52 bags of popcorn, how many bags of popcorn did she have lef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WEDNESDAY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1430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many empty sacks did Tanisha have before she filled 78 sacks with popcor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THURSDA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9907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1 bag of popcorn is enough for 2 people, how many bags will Jan need to buy for the people in her famil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FRIDAY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9140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ndra gave Tanisha 3 quarters for 4 bags of popcorn.  How much change will she receiv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4:36:25Z</dcterms:created>
  <dc:creator>127partidak</dc:creator>
  <dc:description/>
  <dc:language>en-US</dc:language>
  <cp:lastModifiedBy>127partidak</cp:lastModifiedBy>
  <dcterms:modified xsi:type="dcterms:W3CDTF">2011-09-09T14:12:36Z</dcterms:modified>
  <cp:revision>40</cp:revision>
  <dc:subject/>
  <dc:title>Information</dc:title>
</cp:coreProperties>
</file>